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49480" y="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0" y="940896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4948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02CC5-E7F8-41DC-B793-095A97CFC8E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F9C2D-7820-4A72-AA3A-E9BD1C9ADC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76BFA-FA48-424D-92BB-5AD8773E9F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A58C8-6959-4E06-9A52-E0A0833357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6A4C1-578C-444F-90BD-CE876FA44C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79E63-7810-4810-9C0B-C6F82A4566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A0669-4ECD-417E-A6AB-3610300CBC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6DA79-7DAF-4A31-BA0B-9C8645ACDD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14665-7C74-4F86-92F0-7EABD69EFF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3C35A-ED10-4028-A6C6-0328FF8565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DB47B-1478-47A3-8510-3973B427C5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BDA47-BFCE-4269-A858-2B741A35F8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AC762-120E-4A18-9B6C-6DCA1A8043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1B1CF-06C8-466D-BDB7-93341CC32A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BFF15-A7AA-4BCC-8441-06443757F4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16386-59DA-4EAC-89A4-FC0E968B58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88F3-C874-414C-AA3E-738BE8FA4E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A9B5-27F3-4D51-B98E-8FD59B3D2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5994-D667-4000-BAD8-87329513A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B657-E775-4790-8DC6-B639E65A6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8A97-8492-459F-8A29-F5A40641D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434AB-E584-4BA9-BD0E-E19A5B458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64F03-5840-45EB-8DB9-6E6B34749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FE1F0-6A64-4045-98CB-E2B3F96AA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1D32D-6FF1-47F0-8E9A-EF0D2CDE2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97858-B260-4B15-80C0-D59174044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82A87-F392-42A3-96A9-652BB855A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46C3C-5E87-4EFE-B583-5FDB2F9E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DDB6-A033-471A-85E5-D8EB789BA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E2C96-6B99-48C2-95E9-4F7E732D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14D38-111A-4204-AAA6-BEE636F9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1BFB9-9DDE-4ED5-A18F-A9680FC0C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09434-1C8D-4713-BAF9-C6997F95A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28765-4B58-4460-A849-6AB762769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AC962-BA78-41BB-9255-BA0591A91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2CCD3-D3ED-4764-B57F-75BD2FE0E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61FDE-19D2-44DA-8C49-7D89663A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339EE-7052-40C6-9D06-9CEFF7A7B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D7500-50AB-445D-AC97-291458FFA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5D43-934E-4282-AE09-C388552A7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11D22-8EE8-486C-9718-1314290D9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A9A86-4FF9-4A06-88C5-1B9F0828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ED541-234B-4EBB-A6C7-218FAF97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CABD6-FEF5-4676-B21C-336A37AF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32073-CB34-432C-B0CB-804316A5F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9ED22-A50A-42B9-B5C4-FC3BB5C48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FB0DE-D594-47FE-8310-8326AF778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2C24C-264F-4338-8477-95F9C8760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09585-DF33-4E5E-96F4-5A5ADCD2F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533FC-1C9C-46E9-B39F-F231CC497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AA98-B05D-46A8-96F2-2ED5EE626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49DD3-9D48-41B6-9E4A-BA8169FC5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601D9-6371-41BA-8A6C-3A0E5ECBA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54FBF-D44C-44E0-B940-782B54A88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B8699-8E4B-409E-9E82-003056B9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00099-F0FC-42CE-B27F-20905A23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34AB6-B662-4A55-A08D-8B79801B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2406E-5660-4376-BFEB-8DC055100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37C36-2A7F-4C62-BB9E-A36A0D779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2BDAA-4C30-4E28-9FFF-556AADD03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7D8F7-C131-4AE2-A17F-D5241F86F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E52F-A1DD-4520-B2E4-52B695235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BC6C7-5577-48D7-8B6C-24529454D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3C93E-D14C-424E-A448-3BF3CFDE4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E7C12-9F8F-46B3-9A85-477F38A0B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2D104-FCE4-42DB-8606-2BBC8970D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EEE70-0ACD-4382-8D66-380BD5110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C5AAC-63F0-44AF-BB35-41009771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CA10A-D27B-4432-AAAF-F448DA47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B3A35-4FE8-4E45-B6C9-361CC16B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A2B08-2918-4C81-99D1-DAB71D89B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8A202-D365-4BDA-BBEA-9A77531A8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C254-786E-44BB-A331-6677539EE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CFBB1-76CD-4F70-ACE9-FC2E3CC8F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31177-DC80-40EB-AC71-BF702939E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0D348-A9BB-4476-B0F8-C993B8224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BCE59-589C-4568-887C-DCEA6629F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352E1-15A1-4341-BE39-C0A6AA04E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9921D-6EA4-4C86-807F-3B48B70FA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4D4C1-4EE1-416A-BAFA-29A3789F9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B6503-EB04-4E1B-A425-80ADAB579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E715C-BD32-4D45-9132-B70A80B5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614D6-C6C2-4909-8F6C-D5B4EDF4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E5B2-6FF8-4505-9491-D80831B7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899E2-CB0C-4641-9985-5404AB79C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967EE-5CB3-453A-9164-2F9298AC1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F4B347-F267-49EF-A3C2-CF240F3A8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CEA91D-8AC5-491C-900C-0120757EE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FF0989-D68B-4369-8247-B1565DAA7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7BB53-B4D2-4EC6-9A32-F88DB8757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368013-F775-42D4-BF7C-06ED7B50A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C5D42A-4D48-4325-82BC-F00D9E463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CFB3E-AD66-4141-A58C-456FB80A5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5B570B-A6D1-4A2E-966B-0F70330B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0025-FD26-4EA6-B1C2-3D7B75FD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D823F0-4F88-4134-889D-604AB436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F80F5-8FAC-4A6E-AA2E-216C8614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0967BF-5771-46EF-AE53-71B401065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C4610E-F707-44DE-B1B0-D03093E8D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23A43-2994-46F2-80D7-1182337A2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8B59-2E3C-44CA-A037-A4E840B7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F7577-4340-42F9-8D76-972A7889A14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6446C-2CD5-4702-95A0-13B49DC394F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CC5B1-569D-458F-BAD1-7AC37096476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CE02E-7E99-4B2D-BD1A-08985A236CC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57497-5B2F-4170-8CE6-4AADEE87F49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20413-F3AB-4880-ADDF-3C8F5193C30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31C95-BA9F-4834-9D24-F00CA2A52F2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72314"/>
                </a:solidFill>
                <a:latin typeface="Tempus Sans ITC"/>
              </a:rPr>
              <a:t>Ethnography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31720" y="2362320"/>
            <a:ext cx="7407000" cy="22096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2314"/>
                </a:solidFill>
                <a:latin typeface="Tempus Sans ITC"/>
              </a:rPr>
              <a:t>Shahaduz Zaman Ph.D.</a:t>
            </a:r>
            <a:br>
              <a:rPr sz="2800"/>
            </a:br>
            <a:r>
              <a:rPr b="1" lang="en-US" sz="2800" spc="-1" strike="noStrike">
                <a:solidFill>
                  <a:srgbClr val="572314"/>
                </a:solidFill>
                <a:latin typeface="Tempus Sans ITC"/>
              </a:rPr>
              <a:t>Newcastle University, UK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But how to learn what to watch and listen for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How to  move the level of ordinary looking into rigor of systematic seeing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Gill Sans MT"/>
              </a:rPr>
              <a:t>Paris is the the capital of France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br>
              <a:rPr sz="4300"/>
            </a:b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  ……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.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People only see what they are        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       prepared to see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An Exercise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72314"/>
                </a:solidFill>
                <a:latin typeface="Gill Sans MT"/>
              </a:rPr>
              <a:t>Important for Ethnography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Gaining an acces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Taking a ro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2" descr="http://image.slidesharecdn.com/ethnography1-100531004106-phpapp02/95/slide-3-728.jpg?1275285428"/>
          <p:cNvPicPr/>
          <p:nvPr/>
        </p:nvPicPr>
        <p:blipFill>
          <a:blip r:embed="rId1"/>
          <a:stretch/>
        </p:blipFill>
        <p:spPr>
          <a:xfrm>
            <a:off x="1066680" y="76320"/>
            <a:ext cx="79250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http://image.slidesharecdn.com/ethnography1-100531004106-phpapp02/95/slide-4-728.jpg?1275285428"/>
          <p:cNvPicPr/>
          <p:nvPr/>
        </p:nvPicPr>
        <p:blipFill>
          <a:blip r:embed="rId1"/>
          <a:stretch/>
        </p:blipFill>
        <p:spPr>
          <a:xfrm>
            <a:off x="1066680" y="0"/>
            <a:ext cx="8077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572314"/>
                </a:solidFill>
                <a:latin typeface="Times New Roman"/>
              </a:rPr>
              <a:t>   …………</a:t>
            </a:r>
            <a:r>
              <a:rPr b="0" lang="en-US" sz="4000" spc="-1" strike="noStrike">
                <a:solidFill>
                  <a:srgbClr val="572314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In an ethnographic research   </a:t>
            </a:r>
            <a:br>
              <a:rPr sz="3200"/>
            </a:b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    the researcher is called </a:t>
            </a:r>
            <a:r>
              <a:rPr b="1" lang="en-US" sz="3200" spc="-1" strike="noStrike">
                <a:solidFill>
                  <a:srgbClr val="572314"/>
                </a:solidFill>
                <a:latin typeface="Times New Roman"/>
              </a:rPr>
              <a:t>‘Participant </a:t>
            </a:r>
            <a:br>
              <a:rPr sz="3200"/>
            </a:br>
            <a:r>
              <a:rPr b="1" lang="en-US" sz="3200" spc="-1" strike="noStrike">
                <a:solidFill>
                  <a:srgbClr val="572314"/>
                </a:solidFill>
                <a:latin typeface="Times New Roman"/>
              </a:rPr>
              <a:t>    Observer’.</a:t>
            </a: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 There are various level of    </a:t>
            </a:r>
            <a:br>
              <a:rPr sz="3200"/>
            </a:b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    observation</a:t>
            </a:r>
            <a:br>
              <a:rPr sz="4000"/>
            </a:br>
            <a:br>
              <a:rPr sz="4000"/>
            </a:b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mplete observ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mplete participa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bserver as participa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articipant as observ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Complete Observer:</a:t>
            </a:r>
            <a:r>
              <a:rPr b="1" lang="en-GB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  <a:ea typeface="宋体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  <a:ea typeface="宋体"/>
              </a:rPr>
              <a:t>you will watch the situation without interacting with the day to day activ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Complete Participant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  <a:ea typeface="宋体"/>
              </a:rPr>
              <a:t>you participate completely in all things the people do and will not be known in the community as a researcher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1720" y="1447920"/>
            <a:ext cx="7407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72314"/>
                </a:solidFill>
                <a:latin typeface="Gill Sans MT"/>
              </a:rPr>
              <a:t>Ethno (People) Graphy (describing/writing)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20e04"/>
                </a:solidFill>
                <a:latin typeface="Gill Sans MT"/>
              </a:rPr>
              <a:t>Writing about People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Participant as Observer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  <a:ea typeface="宋体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  <a:ea typeface="宋体"/>
              </a:rPr>
              <a:t>you will be fully involved in the daily activities but will take time to record observation.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Observer as Participant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  <a:ea typeface="宋体"/>
              </a:rPr>
              <a:t>you will primarily watch the situation but will also be involved in activities on a secondary basi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http://image.slidesharecdn.com/ethnography1-100531004106-phpapp02/95/slide-9-728.jpg?1275285428"/>
          <p:cNvPicPr/>
          <p:nvPr/>
        </p:nvPicPr>
        <p:blipFill>
          <a:blip r:embed="rId1"/>
          <a:stretch/>
        </p:blipFill>
        <p:spPr>
          <a:xfrm>
            <a:off x="1295280" y="304920"/>
            <a:ext cx="739152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Open Space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Shopping mal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Restaura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Stre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Local bazar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Close  Spac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Schoo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Hospita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Corporate offi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Religious centre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fter deciding about th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evel of particip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ur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tes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ments and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cus of observation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thnographer should enter the setting and start carefully watching and listen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ere is a clue to help you…..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572314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I keep six honest serving men</a:t>
            </a:r>
            <a:br>
              <a:rPr sz="3200"/>
            </a:b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They taught me all I knew</a:t>
            </a:r>
            <a:br>
              <a:rPr sz="3200"/>
            </a:b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Their names are What &amp; Why &amp; When</a:t>
            </a:r>
            <a:br>
              <a:rPr sz="3200"/>
            </a:b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And How &amp; Where &amp; Who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-R. Kipling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572314"/>
                </a:solidFill>
                <a:latin typeface="Gill Sans MT"/>
              </a:rPr>
              <a:t>Observation dimensions: 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434960" y="990720"/>
            <a:ext cx="7499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ERE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0000"/>
                </a:solidFill>
                <a:latin typeface="Calibri"/>
              </a:rPr>
              <a:t>Space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: Physical layout of the plac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0000"/>
                </a:solidFill>
                <a:latin typeface="Calibri"/>
              </a:rPr>
              <a:t>Object: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The physical things that are pres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0000"/>
                </a:solidFill>
                <a:latin typeface="Calibri"/>
              </a:rPr>
              <a:t>Actor: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 Ranges of people involve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0000"/>
                </a:solidFill>
                <a:latin typeface="Calibri"/>
              </a:rPr>
              <a:t>Act: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Single actions people undertak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0000"/>
                </a:solidFill>
                <a:latin typeface="Calibri"/>
              </a:rPr>
              <a:t>Activity: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 A set of related acts that occu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0000"/>
                </a:solidFill>
                <a:latin typeface="Calibri"/>
              </a:rPr>
              <a:t>Time: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ime of the day, duration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0000"/>
                </a:solidFill>
                <a:latin typeface="Calibri"/>
              </a:rPr>
              <a:t>Goal :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hings that people are trying to accomplis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OW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0000"/>
                </a:solidFill>
                <a:latin typeface="Calibri"/>
              </a:rPr>
              <a:t>Sequence: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 Order of activities and it’s interrel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Observing self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mpression managem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ecoming invisib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rofessional Stranger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34960" y="136080"/>
            <a:ext cx="749952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434960" y="914040"/>
            <a:ext cx="7499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Unlike interviews, in which  the researcher extracts data from the respondent, the ethnographer selects data from the naturally occurring flow of life.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The idea that we collect data is a bit misleading. Data are not “out there” waiting for collection, like so many rubbish bags on the pavement. For a start they have to be noticed by the researcher, and treated as data for the purpose of his or her research.” Dey (1993)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Stages of observation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Gill Sans MT"/>
                <a:ea typeface="宋体"/>
              </a:rPr>
              <a:t>Grand tour observ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First wonder around the general location keeping the  focus of your study.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Gill Sans MT"/>
                <a:ea typeface="宋体"/>
              </a:rPr>
              <a:t>Mini tour observ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Then observe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‘</a:t>
            </a: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smaller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’</a:t>
            </a: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 issues (space, actor, activity, objects etc)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Gill Sans MT"/>
                <a:ea typeface="宋体"/>
              </a:rPr>
              <a:t>Selective observ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Finally observe the detail aspects of the setting according to your study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2314"/>
                </a:solidFill>
                <a:latin typeface="Gill Sans MT"/>
              </a:rPr>
              <a:t>Defining ethnography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914040"/>
            <a:ext cx="7499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thnography is the art and science of describing a group or culture. ……..The ethnographer is interested in understanding and describing a social and cultural scene from the emic or insider’s perspective. The ethnographer is both story teller and scientist.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(Fetternam:1998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thnography is a method of research in which the researcher participates overtly or covertly, in people’s daily live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atching what happe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istening to what is being sai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sking questions (Hamersley &amp; Atkinson: 2006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76960" indent="-226080"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76960" indent="-226080"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572314"/>
                </a:solidFill>
                <a:latin typeface="Gill Sans MT"/>
              </a:rPr>
              <a:t>It is crucial to keep observation notes</a:t>
            </a:r>
            <a:endParaRPr b="0" lang="en-US" sz="31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ill Sans MT"/>
                <a:ea typeface="宋体"/>
              </a:rPr>
              <a:t>Cryptic Jotting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Record key words and key phrases while in the field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ill Sans MT"/>
                <a:ea typeface="宋体"/>
              </a:rPr>
              <a:t>Detailed description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Write full notes immediately after exiting the fiel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ill Sans MT"/>
                <a:ea typeface="宋体"/>
              </a:rPr>
              <a:t>Analytical notes (Memo)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Describe your feelings, ideas, moments of confusion, and interpretations about what is observed.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Gill Sans MT"/>
              </a:rPr>
              <a:t>Skills of participant observant:</a:t>
            </a: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Building explicit awareness of little details of lif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Building memor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Maintaining Naiveté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Building writing skill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2314"/>
                </a:solidFill>
                <a:latin typeface="Gill Sans MT"/>
              </a:rPr>
              <a:t>‘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Empathic Neutrality’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Enter into the world. Observe and 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wonder. Experience and reflect. To 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understand a world you must become a 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part of that world while at the same 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ime remaining separate, a part of and 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apart from. </a:t>
            </a:r>
            <a:br>
              <a:rPr sz="3200"/>
            </a:b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1" i="1" lang="en-US" sz="2400" spc="-1" strike="noStrike">
                <a:solidFill>
                  <a:srgbClr val="572314"/>
                </a:solidFill>
                <a:latin typeface="Gill Sans MT"/>
              </a:rPr>
              <a:t>Indian Sufi Saying </a:t>
            </a:r>
            <a:r>
              <a:rPr b="1" i="1" lang="en-US" sz="2400" spc="-1" strike="noStrike">
                <a:solidFill>
                  <a:srgbClr val="572314"/>
                </a:solidFill>
                <a:latin typeface="Gill Sans MT"/>
              </a:rPr>
              <a:t>	</a:t>
            </a:r>
            <a:br>
              <a:rPr sz="2400"/>
            </a:br>
            <a:br>
              <a:rPr sz="3200"/>
            </a:b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72314"/>
                </a:solidFill>
                <a:latin typeface="Gill Sans MT"/>
              </a:rPr>
              <a:t>New Styles of Ethnography 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Videography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Auto ethnograph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Netnograph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572314"/>
                </a:solidFill>
                <a:latin typeface="Gill Sans MT"/>
              </a:rPr>
              <a:t>Referenc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Atkinson P, Coffey A, Delamont</a:t>
            </a:r>
            <a:r>
              <a:rPr b="0" lang="en-GB" sz="2400" spc="-1" strike="noStrike" baseline="30000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S, Lofland J, Lofland L, eds. </a:t>
            </a:r>
            <a:r>
              <a:rPr b="0" i="1" lang="en-GB" sz="2400" spc="-1" strike="noStrike">
                <a:solidFill>
                  <a:srgbClr val="000000"/>
                </a:solidFill>
                <a:latin typeface="Gill Sans MT"/>
              </a:rPr>
              <a:t>Handbook of ethnography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. London:</a:t>
            </a:r>
            <a:r>
              <a:rPr b="0" lang="en-GB" sz="2400" spc="-1" strike="noStrike" baseline="30000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Sage, 2001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Dey, Ian. 1993. </a:t>
            </a:r>
            <a:r>
              <a:rPr b="0" i="1" lang="en-GB" sz="2400" spc="-1" strike="noStrike">
                <a:solidFill>
                  <a:srgbClr val="000000"/>
                </a:solidFill>
                <a:latin typeface="Gill Sans MT"/>
              </a:rPr>
              <a:t>Qualitative data analysis. London: Routledg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Fetterman D. </a:t>
            </a:r>
            <a:r>
              <a:rPr b="0" i="1" lang="en-GB" sz="2400" spc="-1" strike="noStrike">
                <a:solidFill>
                  <a:srgbClr val="000000"/>
                </a:solidFill>
                <a:latin typeface="Gill Sans MT"/>
              </a:rPr>
              <a:t>Ethnography: step by step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. 2nd ed.</a:t>
            </a:r>
            <a:r>
              <a:rPr b="0" lang="en-GB" sz="2400" spc="-1" strike="noStrike" baseline="30000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London: Sage, 1988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Hammersley M, Atkinson</a:t>
            </a:r>
            <a:r>
              <a:rPr b="0" lang="en-GB" sz="2400" spc="-1" strike="noStrike" baseline="30000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P. </a:t>
            </a:r>
            <a:r>
              <a:rPr b="0" i="1" lang="en-GB" sz="2400" spc="-1" strike="noStrike">
                <a:solidFill>
                  <a:srgbClr val="000000"/>
                </a:solidFill>
                <a:latin typeface="Gill Sans MT"/>
              </a:rPr>
              <a:t>Ethnography: principles in practice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. 2nd ed. London: Routledge,</a:t>
            </a:r>
            <a:r>
              <a:rPr b="0" lang="en-GB" sz="2400" spc="-1" strike="noStrike" baseline="30000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1995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97920"/>
            <a:ext cx="749952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685800"/>
            <a:ext cx="7499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Ethnography is a methodology with more than 100 years of history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It arose in the Western world as form of knowledge about distant cultures(typically non-Western culture)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This was historically a colonial method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Changed over time: ‘Anthropology at home’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72314"/>
                </a:solidFill>
                <a:latin typeface="Gill Sans MT"/>
              </a:rPr>
              <a:t>Malinowski in New Guinea (1916)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4" name="Content Placeholder 3" descr="Malinowski.bmp"/>
          <p:cNvPicPr/>
          <p:nvPr/>
        </p:nvPicPr>
        <p:blipFill>
          <a:blip r:embed="rId1"/>
          <a:stretch/>
        </p:blipFill>
        <p:spPr>
          <a:xfrm>
            <a:off x="1905120" y="1981080"/>
            <a:ext cx="6629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6" name="Content Placeholder 3" descr="Fieldwork.bmp"/>
          <p:cNvPicPr/>
          <p:nvPr/>
        </p:nvPicPr>
        <p:blipFill>
          <a:blip r:embed="rId1"/>
          <a:stretch/>
        </p:blipFill>
        <p:spPr>
          <a:xfrm>
            <a:off x="1905120" y="1600200"/>
            <a:ext cx="60958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Ethnographic methodology gives priority to observation as it’s primary source of information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In other words, it’s a knowledge gathering process through observation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Any professional work is dependent upon the powers of observation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Why do we need to observe in ethnography?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900"/>
            </a:br>
            <a:br>
              <a:rPr sz="2900"/>
            </a:br>
            <a:endParaRPr b="0" lang="en-US" sz="2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  <a:ea typeface="宋体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Observational method provide data on what people do, as well as what they say they do.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It helps to get an inside view of everyday reality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ives chance to learn things that people are unwilling to talk in interview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4T17:15:32Z</dcterms:created>
  <dc:creator>Neeor</dc:creator>
  <dc:description/>
  <dc:language>en-US</dc:language>
  <cp:lastModifiedBy>Zaman</cp:lastModifiedBy>
  <dcterms:modified xsi:type="dcterms:W3CDTF">2013-12-11T21:35:34Z</dcterms:modified>
  <cp:revision>96</cp:revision>
  <dc:subject/>
  <dc:title>Ethnography  Describing people in their natural setting</dc:title>
</cp:coreProperties>
</file>